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BC8E-B773-4307-92A7-275E3778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3D8-8AC3-434A-B17C-622D7B70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3DC-C0AC-4693-99A7-3D0F5B93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C66E-BE07-4D48-B2DF-B17F2828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35C-E5BB-430F-8440-C99D2C0F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A33-9144-4528-A691-A15C64AD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369-73E0-4F7F-AC74-E28C9A9E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985-2D4D-4C1B-AF84-DFF44A9F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5D9-2D54-4E50-A979-60E6DEB9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7CC-BDD7-4ADB-8689-B25585DA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AB5-F5A4-4F8D-B7AE-759866E1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807E-7D72-4D63-AB7F-52D0BE25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4331-3603-406A-9568-6FDAEC872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HE MARCH FOR VOTING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46748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609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rtin Luther King Jr. and his wife Core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8120" y="1066680"/>
            <a:ext cx="3703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09680" y="1066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4572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600 TEAR GA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162920" cy="5076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30492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ATEN WITH BILLY CLU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1284120"/>
            <a:ext cx="6400800" cy="531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57400" y="3049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IMES OF SE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5181480" cy="2960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10080" y="2629080"/>
            <a:ext cx="3733920" cy="355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46483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BOB E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60948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PS IN THE TIMES OF SE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518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00200" y="3808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OTING RIGHTS ARE GRA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7:42:41Z</dcterms:created>
  <dc:creator>Milford Public Schools</dc:creator>
  <dc:description/>
  <dc:language>en-US</dc:language>
  <cp:lastModifiedBy>Milford Public Schools</cp:lastModifiedBy>
  <dcterms:modified xsi:type="dcterms:W3CDTF">2009-03-27T17:36:39Z</dcterms:modified>
  <cp:revision>4</cp:revision>
  <dc:subject/>
  <dc:title>THE MARCH FOR VOTING RIGHTS</dc:title>
</cp:coreProperties>
</file>